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0E38-1FDF-4EAA-BF07-A38A0914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FE7C-B792-4F99-8547-8CC00D60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2B79-5B5A-4469-9630-F404F2E5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FC63-56C7-423B-B819-F6DFFBEC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685C-FDDD-4676-A4F1-589CA54C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85AA-2E19-4398-BD0F-E939BBA2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B3B-0B10-4BA9-A619-26651B51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A95E-CDFF-4342-B6AB-0A61F6B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0F8-7E47-493E-AAD9-ACB680E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4364-5944-473C-B4A4-20CC0E8C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7F7B-922A-49F9-8EFF-8DEAE4C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0BF0-2099-4D08-BE5E-F895535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DAFE-6978-440E-A7E1-0137249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64BA-58BD-4B44-ABCE-8243056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3BBC-B353-4AE5-A269-E1CD2808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C521-A1AF-4774-B703-9E534498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4A4D-4EB2-4053-92D4-3762C700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7F39-D868-4771-81CC-EEE213C5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0101-401A-4324-A1C4-AB744F9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7ED7-38B6-40F8-B3AC-4902A70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A595-3E14-4683-BF27-82B06D5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12D6-2AF2-4549-BFD6-A8523AD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031C-0AD4-46EB-B6E3-06A2D0B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D615-C43E-4999-AF5D-849F8B2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0AF-4E8B-48DB-AB1C-E34493BE85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04CF-6061-4D00-B379-D25FCB905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14.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  The Early Battles: 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. Stopping the Germ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North Africa: Operation To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urchill and FDR launch O.T. instead; not ready; Stalin up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964040" y="2286000"/>
            <a:ext cx="4179960" cy="4572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Photograph, The Supreme Allied Commander at 8th Infantry Division headquarters in Belgium, November 1944."/>
          <p:cNvPicPr/>
          <p:nvPr/>
        </p:nvPicPr>
        <p:blipFill>
          <a:blip r:embed="rId2"/>
          <a:stretch/>
        </p:blipFill>
        <p:spPr>
          <a:xfrm>
            <a:off x="6902280" y="0"/>
            <a:ext cx="2241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7 mos of attack by wolf packs along US east coast = 681 Allied ships           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 Building rate for ships increase to 140/month from 100/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3.  Battle of Stalingrad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.   Invasion of Stalingrad due to Germans needing oil and indust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.  Started in summer; thought it would be an easy inva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.   Fighting endured for months and into w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.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rmans on defensive; were not allowed to retreat; eventually surrendered; never recov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560" name="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562" name="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and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07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File:March of Death from Bataan to the prison camp - Dead soldiers.jpg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(n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carrier-based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Japan to attack; 110 ship; goal: 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Japan never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14T20:56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